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meepmeep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614-360C-4620-B712-18BEA510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4A6-A73C-4953-B56E-ADE8B9E7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A18-B1AC-45F2-A4B8-5D0D8FA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7D8-B432-4B87-B357-EF822004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426-8682-4816-ADEE-166508EF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100-9ED5-4A3D-A87F-8489F91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725-7BBB-49F7-90CF-28FF1CA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500-EE22-492E-B1D2-4D70EC6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191-24A9-409C-BE7E-74A3152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5C1-F367-4A49-B95D-43E81010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80C-7BA4-42D3-9F1D-6C2885A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8B2-FD05-404D-8C04-4812705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DE9-4EDB-41A1-8FF6-4DD22657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peopleooo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serie06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bserie06.wav"/><Relationship Id="rId33" Type="http://schemas.openxmlformats.org/officeDocument/2006/relationships/audio" Target="../media/peopleooo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0320" y="12049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3360" y="183348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080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424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7 in the tenths place is higher than 5, the 8 in the ones place becomes a 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840" y="190332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7760" y="118908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98880" y="181764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840" y="19033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372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30800" y="5943600"/>
            <a:ext cx="26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098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4240" y="2600280"/>
            <a:ext cx="464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6 in the hundredths place is higher than 5, the 5 in the tenths place becomes a 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8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616120"/>
            <a:ext cx="19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712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$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8272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3.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2916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100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92" idx="1"/>
          </p:cNvCxnSpPr>
          <p:nvPr/>
        </p:nvCxnSpPr>
        <p:spPr>
          <a:xfrm>
            <a:off x="2890440" y="1636560"/>
            <a:ext cx="73908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endCxn id="93" idx="1"/>
          </p:cNvCxnSpPr>
          <p:nvPr/>
        </p:nvCxnSpPr>
        <p:spPr>
          <a:xfrm flipV="1">
            <a:off x="273060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50028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472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453.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8600" y="509112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0.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3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4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4. Estimate by Front-End Esti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14.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960" y="2616120"/>
            <a:ext cx="234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748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82720"/>
            <a:ext cx="20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.1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8952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1" idx="3"/>
            <a:endCxn id="116" idx="1"/>
          </p:cNvCxnSpPr>
          <p:nvPr/>
        </p:nvCxnSpPr>
        <p:spPr>
          <a:xfrm>
            <a:off x="2890800" y="1636560"/>
            <a:ext cx="10994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17" idx="1"/>
          </p:cNvCxnSpPr>
          <p:nvPr/>
        </p:nvCxnSpPr>
        <p:spPr>
          <a:xfrm flipV="1">
            <a:off x="309096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86064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2.29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03680" y="51228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3"/>
            <a:endCxn id="127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endCxn id="128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520" y="117792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8596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2760" y="2519280"/>
            <a:ext cx="10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54760" y="2530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8600" y="373680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34664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98720" y="5124600"/>
            <a:ext cx="10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7400" y="5041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6280" y="50896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0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5. Estimate by Cluster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640" y="1103400"/>
            <a:ext cx="82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50 + $5.20 + $5.5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68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$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8920" y="29480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460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1640" y="292572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$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 26.7 + 26.2 + 24.52 + 25.25 +23.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865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2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8920" y="59292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460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1640" y="59072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3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ge 125, 3 – 1 #1-13, 15-4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3T11:16:07Z</dcterms:modified>
  <cp:revision>52</cp:revision>
  <dc:subject/>
  <dc:title>Slide 1</dc:title>
</cp:coreProperties>
</file>